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F3F8-5105-4C82-BDAF-D32271CD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70E2-7190-4B36-85E5-49CAD074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96AF-D61C-44DF-9690-0E7696C5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DC44-EB3E-402D-9978-91EE1D6C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2A83-2F71-4CCC-9C4F-583BD501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5354-717E-4371-ABDB-CFD033B3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8C9E-DB73-497F-A03F-E6313C34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E73A-25B5-4C92-B609-7489DC97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62A6-7156-43A3-AB9E-CD1413F5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2C70-5788-4CAE-8296-7A543D0D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D92D-426C-4B05-8C9A-427D09B0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3EAF-C5CD-4F1C-BC14-78D729A2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6A6F-38C7-4985-A259-158DD09DC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4:22:04Z</dcterms:created>
  <dc:creator>LCS_user</dc:creator>
  <dc:description/>
  <dc:language>en-US</dc:language>
  <cp:lastModifiedBy>LCS_user</cp:lastModifiedBy>
  <dcterms:modified xsi:type="dcterms:W3CDTF">2008-09-23T14:22:23Z</dcterms:modified>
  <cp:revision>1</cp:revision>
  <dc:subject/>
  <dc:title>Slide 1</dc:title>
</cp:coreProperties>
</file>