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5D63-D5E0-465D-AE59-F7F9B012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C39-C85D-472C-93A8-1FCE3A9D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3E2-1339-4633-A686-456F4546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680-7093-45E1-A8E3-DFC7A681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AD5-C789-48F5-9395-B3F51CD6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911-2C53-4E07-A10A-F36A34A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F31-666F-4F98-B52D-3BB2261E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382-4BD1-4018-A378-C4E8675B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FA7-EAA0-4E9D-863E-6FC2FCA8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002-F65A-4FEF-93DE-4E9FCC9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12C3-71D2-484A-B072-12579B3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F81-F9CC-4067-BA56-6003A0AC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F3E-67F2-46B4-AD9C-5F39A3698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4:22:04Z</dcterms:created>
  <dc:creator>LCS_user</dc:creator>
  <dc:description/>
  <dc:language>en-US</dc:language>
  <cp:lastModifiedBy>LCS_user</cp:lastModifiedBy>
  <dcterms:modified xsi:type="dcterms:W3CDTF">2008-09-23T14:22:23Z</dcterms:modified>
  <cp:revision>1</cp:revision>
  <dc:subject/>
  <dc:title>Slide 1</dc:title>
</cp:coreProperties>
</file>